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664320" cy="992520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68">
                <a:moveTo>
                  <a:pt x="5" y="0"/>
                </a:moveTo>
                <a:arcTo wR="5" hR="5" stAng="16200000" swAng="-5400000"/>
                <a:lnTo>
                  <a:pt x="0" y="32163"/>
                </a:lnTo>
                <a:arcTo wR="5" hR="5" stAng="10800000" swAng="-5400000"/>
                <a:lnTo>
                  <a:pt x="21595" y="3216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664320" cy="992520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68">
                <a:moveTo>
                  <a:pt x="5" y="0"/>
                </a:moveTo>
                <a:arcTo wR="5" hR="5" stAng="16200000" swAng="-5400000"/>
                <a:lnTo>
                  <a:pt x="0" y="32163"/>
                </a:lnTo>
                <a:arcTo wR="5" hR="5" stAng="10800000" swAng="-5400000"/>
                <a:lnTo>
                  <a:pt x="21595" y="3216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4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3520" y="-360"/>
            <a:ext cx="2884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488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26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884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3520" y="9426600"/>
            <a:ext cx="2884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CF706-9D7C-400C-B749-5C6762B589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A75F-C8F8-4C5D-A46C-CE3BB223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85A-A559-414C-8709-6031AA37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3A5-5CE3-44C5-B120-3BF72EB7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FCC-BB93-4FF2-B083-82ED9168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E21-7BE7-4478-BEB7-06333C73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A08-388F-4D9D-A4DE-10F93702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BACE-A1CE-441D-9E35-2060E05F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AB1-E4BF-4C6D-BB20-4AFAF040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8A7-8191-4074-B811-2C3EDAE3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4BD-F367-4872-90AB-E34E9FB8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2BEB-72F3-4DAE-875F-0C832854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70D-D2B0-4303-BDA6-91B74492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04686-C1AE-483B-B1BF-D31E89355B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268280"/>
            <a:ext cx="784836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. 3º Constituem diretrizes gerais de ação para implementação da Política Nacional de Recursos Hídr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- a gestão sistemática dos recursos hídricos, sem dissociação dos aspectos de quantidade e qual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I - a adequação da gestão de recursos hídricos às diversidades físicas, bióticas, demográficas, econômicas, sociais e culturais das diversas regiões d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II - a integração da gestão de recursos hídricos com a gestão ambien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V - a articulação do planejamento de recursos hídricos com o dos setores usuários e com os planejamentos regional, estadual e na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 - a articulação da gestão de recursos hídricos com a do uso do sol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 - a integração da gestão das bacias hidrográficas com a dos sistemas estuarinos e zonas costei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4520" y="404640"/>
            <a:ext cx="5949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LEI Nº 9.433, DE 8 DE JANEIRO DE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03240" y="3956040"/>
            <a:ext cx="7238880" cy="19810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upo de Integração do Gerenciamento Cost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I - GE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60440" y="4032360"/>
            <a:ext cx="83808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etro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1560" y="5708520"/>
            <a:ext cx="761760" cy="38124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0360" y="5251320"/>
            <a:ext cx="60948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80360" y="418464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18240" y="39560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3760" y="471816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89840" y="4641840"/>
            <a:ext cx="685800" cy="5335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12920" y="3727440"/>
            <a:ext cx="76212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27320" y="37274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41720" y="3727440"/>
            <a:ext cx="68580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D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80160" y="3803760"/>
            <a:ext cx="68580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74840" y="3803760"/>
            <a:ext cx="68580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9560" y="5251320"/>
            <a:ext cx="685800" cy="3049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B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65960" y="5479920"/>
            <a:ext cx="76176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EC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32040" y="57848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17640" y="55562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B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37160" y="578484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T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46440" y="57848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960" y="4336920"/>
            <a:ext cx="685800" cy="3049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9720" y="121284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riado no âmbito do PNGCII para promover a articulação das ações federais incidentes na Zona Costeira, a partir da aprovação de planos de ação fed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960" y="297972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os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206280"/>
            <a:ext cx="7632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Articulação política e institucional na Esfera Federal para a condução do PN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4200" y="149400"/>
            <a:ext cx="81741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INISTÉRIO DO MEIO 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SELHO NACIONAL DE RECURSOS HÍ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OLUÇÃO No 51, DE 18 DE JULHO DE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Institui a Câmara Técnica de Integração 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Gestão das Bacias Hidrográficas e dos 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Estuarinos e Zona Costei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SELHO NACIONAL DE RECURSOS HÍDRICOS-CNR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no uso das competências que lhe são conferidas pelas Leis nos 9.433, de 8 de janeiro de 1997, e 9.984, de 17 de julho de 2000, e tendo em vista o disposto nos arts. 22 e 23 do seu Regimento Interno;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que o art. 3o, inciso VI, da Lei no 9.433, de 1997, prevê a integração da gestão das bacias hidrográficas com a dos sistemas estuarinos e zonas costeiras como uma das diretrizes gerais de ação para a implementação da Política Nacional de Recursos Hídric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o constante da Lei no 7.661, de 16 de maio de 1988, que instituiu o Plano Nacional de Gerenciamento Costei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a necessidade de otimizar esforços para maior integração das ações entre os colegiados costeiros e os comitês de bacia hidrográfica, resol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1o Instituir a Câmara Técnica de Integração da Gestão das Bacias Hidrográficas e dos Sistemas Estuarinos e Zona Costei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84200" y="220680"/>
            <a:ext cx="81741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OLUÇÃO No 51, DE 18 DE JULHO DE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2o São competências da Câmara Técn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 - analisar e propor mecanismos de integração das políticas de gestão de recursos hídricos e de gerenciamento costeiro, considerando também as demais políticas públicas inciden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I - propor mecanismos de integração dos instrumentos das políticas e indicadores comuns para o gerenciamento de recursos hídricos na zona costeira e sistemas estuarin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II - analisar e propor ações visando a minimização ou solução de conflitos de uso de recursos hídricos na zona costeira e sistemas estuarin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V - propor mecanismos de intercâmbio técnico e institucional entre as instâncias responsáveis pelas respectivas polític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V - analisar, estudar e emitir pareceres sobre assuntos afi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VI - exercer competências do CNRH que lhe forem especialmente delegadas pelo Plená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3o A composição da Câmara Técnica e o mandato dos seus membros serão definidos conforme estabelecido no Regimento Interno do CNR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4o A Câmara Técnica terá prazo de dois meses, a partir da publicação desta Resoluçã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ara sua instalação, cabendo à Secretaria -Executiva cooperar com sua efetiv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5o Esta Resolução entra em vigor na data de sua public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20720" y="1324080"/>
            <a:ext cx="773892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São instrumentos de gestão dos Recursos Hídricos, conforme art. 5o. da Lei n. 9433, de 08 de janeiro de 199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s Planos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 enquadramento dos corpos de água em classes, segundo os usos preponderantes da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outorga dos direitos de uso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cobrança pelo uso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 Sistema de Informações sobre Recursos Híd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24000" y="158760"/>
            <a:ext cx="669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INSTRUMENTOS DE GESTÃO DOS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8720" y="5516640"/>
            <a:ext cx="770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3, de 25 de setembro d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diretrizes para a implementação do Sistema Nacional de Informações sobr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1700280"/>
            <a:ext cx="792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2, de 19 de julho d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procedimentos para o enquadramento de corpos de água em classes segundo os usos preponder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92428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6, de 08 de maio d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critérios gerais para a outorga de direito de uso d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0560" y="40464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7, de 29 de maio d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diretrizes para elaboração dos Planos de Recursos Hídricos de Bacias Hidrográ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8720" y="4221000"/>
            <a:ext cx="770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48, de 21 de março de 200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critérios gerais para a cobrança pelo uso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9280" y="1940760"/>
            <a:ext cx="77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AS RESOLUÇÕES CNRH Nº. 12, 13, 16, 17 E 48 E PROPOR EVENTUAIS AJUSTES NELAS VISANDO A INTEGRAÇÃO DOS INSTRUMENTOS DAS POLÍTICAS E INDICADORES COMUNS PARA O GERENCIAMENTO DE RECURSOS HÍDRICOS NA ZONA COSTEIRA E SISTEMAS ESTUARI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0" y="40464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0" y="55548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82800" y="2101680"/>
            <a:ext cx="717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A MINUTA DO PL 1616 E PROPOR EVENTUAIS AJUSTES NELE VISANDO A INTEGRAÇÃO DAS POLÍTICAS DE GESTÃO DE RECURSOS HÍDRICOS E DE GERENCIAMENTO COS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1800" y="339840"/>
            <a:ext cx="2616120" cy="9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Priori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0560" y="148428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DETALHAR O PROGRAMA SOBRE ZONA COSTEIRA QUE CONSTA DO P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2640" y="3427560"/>
            <a:ext cx="757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omponente de Programas Regionais de Recursos Hídricos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25640" y="4763160"/>
            <a:ext cx="70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X. Programa de Gestão de Recursos Hídricos Integrados ao Gerenciamento Costeir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997360"/>
            <a:ext cx="8064360" cy="3311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0" y="40464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7280" y="1916280"/>
            <a:ext cx="80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O DECRETO Nº 5.300, DE 07 DE DEZEMBRO DE 2004 QUE REGULAMENTOU A LEI N° 7661, DE 16 DE MAIO DE 1988 E PROPOR EVENTUAIS AJUSTES NELE VISANDO A INTEGRAÇÃO DAS POLÍTICAS DE GESTÃO DE RECURSOS HÍDRICOS E DE GERENCIAMENTO COS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aquim</dc:creator>
  <dc:description/>
  <dc:language>en-US</dc:language>
  <cp:lastModifiedBy>joaquim</cp:lastModifiedBy>
  <cp:revision>0</cp:revision>
  <dc:subject/>
  <dc:title>Slide 1</dc:title>
</cp:coreProperties>
</file>